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4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E3B-1B3B-4021-A4A2-BE4B7EAB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621-CA0F-4D91-865B-A15D48DB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025-738D-4B3D-8691-B32603E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C5C-14CA-4386-AD8D-C954A3DB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96B-2ED2-463F-BAAD-A495F400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F8A-75BB-4CF7-BE6E-630EC78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6F6-F9C7-4156-B8B8-E3F7D21F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240-B995-4636-8F27-54145E5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91F-584C-4A5F-8FF2-320BEA3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DE3-B08D-4F54-83EC-600FEDC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BB1-F7D6-49DB-B760-27F56B4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ACB-3BEC-4929-9CEF-18B5B73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59BF-E51C-4C0F-81B6-24B578123C8F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package" Target="../embeddings/oleObject1.ppt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2760" y="2444760"/>
            <a:ext cx="8173800" cy="196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09480" y="228600"/>
            <a:ext cx="784872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ички ли християни имат  евангелизаторска дар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Коринтяни 12 : 4 - 6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71680"/>
            <a:ext cx="9144000" cy="54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Очевидно отговорът е “не”. Световните проучвания показват, че обикновено не повече от 10% от активното членство има духовната дарба за евангелизиране. Защо това е така?  Най-вече, защото евангелизаторската дарба е специализир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Ако някой не притежава тази дарба въобще не значи, че няма да се занимава с работа за достигане на хората. Един от основните принципи на християнския живот е: “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е всички християни са евангелизатори, но всички християни са свидетели!”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сички християни са натоварени с отговорността да свидетелстват, като разкажат на приятели, роднини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ъседи и колеги евангелската история и да представят своето лично свидетелство. Но хората, притежаващи дарбата за водене на разговори и насърчаване към решение, вършат “делото на благовестител” с финес и особена, дадена от Бога мъдро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85840" y="457200"/>
            <a:ext cx="84391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АТО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Тимотей 4 : 5;  Деяния 8 : 5, 6, 26 - 40  /  14 : 21   /  21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680" y="2019240"/>
            <a:ext cx="8648640" cy="4483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я е единствена по рода си. Хората с тази дарба могат да довеждат други хора във вярата по различни начини, почти недостижими за някои. Господ им дава думи, които трябва да кажат и ги поставя в ситуации, където откриват възприемчиви хора по начини, които не се случват на друг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фини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аторската дарба е способност, която Бог дава на някои членове на Христовото тяло в по-голяма степен, отколкото на други. Тя се изявява в споделяне на евангелието с невярващите по такъв начин, че жени и мъже да стават Исусови ученици и отговорни членове на Христовата църк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04880" y="2800440"/>
            <a:ext cx="771516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ръщането на грешници и освещението им чрез истината е най-мощното доказателство, с  което един служител може да разполага, за да ни убеди, че Бог го е призовал за тази служба.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НА АПОСТОЛ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5840" y="457200"/>
            <a:ext cx="84391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АТО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Тимотей 4 : 5;  Деяния 8 : 5, 6, 26 - 40  /  14 : 21   /  21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Кор. 12 гл.        Рим. 12 гл.           1 Пет. 4 гл.               Ефес. 4 г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РБИ НА              ДАРБИ НА ЧУДЕСА               ДАРБИ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ОТО                    И ЗНАМЕНИЯ                     СЛУ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76520"/>
            <a:ext cx="27432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ато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97160" y="3400560"/>
          <a:ext cx="4549680" cy="3457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3400560"/>
                    <a:ext cx="4549680" cy="3457440"/>
                  </a:xfrm>
                  <a:prstGeom prst="rect">
                    <a:avLst/>
                  </a:prstGeom>
                  <a:ln w="936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838080" y="3049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ДАРБА ЗА ЕВАНГЕЛИЗИРАНЕ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ог знае кой може да употреби най-добре като евангелизатор. Служенето на такъв човек може да не започне като такова. Първите двама евангелизатори, които откриваме в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на апостолите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са Филип и Стефан. И двамата започнаха служенето си като събираха пожертвования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6 : 2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Заедно с тях бяха избрани и други, но от цялата група само Филип и Стефан станаха евангелизатори. Стефан беше убит вероятно след първата си евангелизаторска проповед, а Филип бе наречен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благовестител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21 : 8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Филип е станал благовестител в 33 г. сл. Хр. и е служил като такъв до 60 г.сл.Хр. Това означава, че призванието на неговия живот е било благовестван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уховния живот на Стефан и Филип е бил изключително посветен, защото Новия завет казва, че са били изпълнени с Светия Дух и мъдрост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6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0" y="298440"/>
            <a:ext cx="9144000" cy="119124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ecffe"/>
              </a:gs>
              <a:gs pos="100000">
                <a:srgbClr val="ff66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Функцията на евангелизатора може да бъде разбрана по-добре, ако разгледаме живота и служенето на единствения човек, наречен благовестител в Библията. Това е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9966ff"/>
                </a:solidFill>
                <a:latin typeface="Times New Roman"/>
              </a:rPr>
              <a:t>ФИЛИ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431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Той отиде в Самария и проповядва Христос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03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Говори на хората и извърши чудеса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575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Донесе радост в града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147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Кръсти повярвалите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587760"/>
            <a:ext cx="9144000" cy="97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5. Покори се на Господа относно мястото, където трябва да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лужи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8 : 26,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6264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Получи ясни напътствия от Светия Дух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0292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Сподели благовестието с един човек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30 -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7704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Проповядва евангелието в много градове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3424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9. Евангелизира собственото си семейство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21 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644400"/>
            <a:ext cx="91440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Ще бъде също полезно да да проследим живота и служенето на  другия човек, изпълнен със Светия Дух - 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СТЕФ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24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ой извърши велики чудеса сред хората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6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812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стъпваше мъдро и със силата на Светия Дух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6 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384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Реагира добре, когато беше преследван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6 :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956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Проповядва словото ясно и със сила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7 : 51 - 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938760"/>
            <a:ext cx="91440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Говори истината без страх, въпреки, че това му коства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живота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7 : 57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9435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Прости на убийците си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7 :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40072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Стана първия мъченик за църкв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838080" y="3049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ДАРБА ЗА ЕВАНГЕЛИЗИРАНЕ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86000"/>
            <a:ext cx="8077320" cy="3035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руг стих, който трябва да бъде отбелязан, е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...извърши делото на благовестител”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/2 Тимотей 4 : 5/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Този стих ни говори, че дарбата за евангелизиране често е съчетана и с друга дарба. Тимотей, към когото бе отправено горното увещание, беше пастор. Това, което трябва да знаеме, е, че пасторът може да бъде и евангелизатор. Тези две служения имат много общи нещ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209680" y="838080"/>
            <a:ext cx="4496040" cy="459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 или  НЕ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А/ Благовестител означава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“човек, който разнася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благата вест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2124000"/>
            <a:ext cx="1676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81440"/>
            <a:ext cx="914400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/ Проповядването на евангелието е главно за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вярващ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3419640"/>
            <a:ext cx="1676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/ Евангелизаторът има само една функ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181400"/>
            <a:ext cx="1676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952880"/>
            <a:ext cx="914400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/ Пасторите не трябва да опитват да вършат работата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евангелиза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477040"/>
            <a:ext cx="1676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0"/>
            <a:ext cx="592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АРБА ЗА ЕВАНГЕЛИЗИРАН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35" name=""/>
          <p:cNvSpPr txBox="1"/>
          <p:nvPr/>
        </p:nvSpPr>
        <p:spPr>
          <a:xfrm>
            <a:off x="1981080" y="457200"/>
            <a:ext cx="48675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РАЗВИТИЕ НА ДАРБАТА ЗА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ЕВАНГЕЛИЗИРАНЕ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362320"/>
            <a:ext cx="8458200" cy="394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сяка дарба за служене, независимо, че се дава от Христос, трябва да бъде развивана. Едно бебе може да е създадено като съвършено човешко същество, но това не означава, че е завършило развитието си. Преди да порасне напълно, трябва да минат много години на обучение. Дарбата на евангелизатора е добър и съвършен  дар от Главата на тялото - Христос и все пак, преди да достигне пълната си ефективност, е необходимо нейното усъвършенств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четири стъпки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за развитие на дарб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665280" y="3044880"/>
            <a:ext cx="781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АРБИ ЗА ДОСТИГАНЕ ДО СВЕ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81080" y="457200"/>
            <a:ext cx="48675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СТЪПКИ КЪМ РАЗВИТИЕ НА ДАРБАТА ЗА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ЕВАНГЕЛИЗИРАН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9144000" cy="21132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ного моли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анадесетте апостоли бяха още и евангелизатори. Да забележим какво говори Библията за тяхната молитва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6 : 4 / 10 : 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рез молитва евангелизаторът се изпълва със Светия Дух и тогава неговото проповядване дава резулт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267080"/>
            <a:ext cx="9144000" cy="247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Систематично изучаване на Божието Сл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иблията е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“мечът на Духа”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/Ефесяни 6 : 17/.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Божият Дух може да употреби само това, което предоставим в Неговите ръце. Ние можем да поставим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“меча”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в ръцете Му дотолкова, доколкото познаваме Словото. Проповядването на Божието Слово е сърцевината на евагелизирането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/2 Тимотей 2:15/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81080" y="457200"/>
            <a:ext cx="48675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СТЪПКИ КЪМ РАЗВИТИЕ НА ДАРБАТА ЗА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Arial Black"/>
              </a:rPr>
              <a:t>ЕВАНГЕЛИЗИРАН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9144000" cy="21132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Слушане и покорство на Божия гл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пециалното водителство на Светия Дух е много важно за евангелизатора -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8 : 2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9 : 10 - 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16 : 6 - 11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. То се научава от опит. Опитностите ни учат как да отделяме нашите собствени мисли от това, което Бог ни каз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Засилено евангелизи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арбата не може да се развие без нейното редовно практикуване. Изключително е важно, притежаващия дарбата редовно да я  използва и развива, като Бог от Своя страна дава опитности, които утвърждават евангелизатора в неговото приз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600200" y="457200"/>
            <a:ext cx="5562720" cy="1922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тието на дарбата на служене на                                                                                                                                                                                                                                    евангелизатора включва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1676520"/>
            <a:ext cx="3962160" cy="459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 или НЕ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/ Изучаване на Божието Сл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2809800"/>
            <a:ext cx="1371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/ Слушане на Божия гл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3648240"/>
            <a:ext cx="1371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9568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В/ Засилено евангелизи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486320"/>
            <a:ext cx="13716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я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855800" y="2568600"/>
            <a:ext cx="54291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ДАРБА НА </a:t>
            </a:r>
            <a:endParaRPr b="0" i="1" lang="en-US" sz="48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МИСИОНИРАНЕ</a:t>
            </a:r>
            <a:endParaRPr b="0" i="1" lang="en-US" sz="48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r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СИОНИ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м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лян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: 5  / 15 : 16   / 10 : 15;  1 Тимотей 2 : 7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8 : 4 / 13 : 2, 3 / 22 : 21; 1 Коринтяни 9 : 19 -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362320"/>
            <a:ext cx="9144000" cy="48488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собност, която Бог дава на някои членове на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истовото тяло за да упражняват всяка друга духовна дарба, която притежават за достигане на различни в социално и културно отношение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ъществуват различни видове мисиониран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ътрешния духовен и числен растеж на съществуващото вече църковно 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Изграждане на нови църк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Стремеж към достигане на различни етнически, езикови и                                                                                                                                                                                                     културни 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Кор. 12 гл.        Рим. 12 гл.           1 Пет. 4 гл.               Ефес. 4 г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РБИ НА              ДАРБИ НА ЧУДЕСА               ДАРБИ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ОТО                    И ЗНАМЕНИЯ                     СЛУ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048040"/>
            <a:ext cx="27432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ато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95600"/>
            <a:ext cx="27432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Мисион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666880" y="30492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АПОСТОЛ ПАВЕЛ</a:t>
            </a:r>
            <a:endParaRPr b="0" lang="en-US" sz="24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66880" y="30492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Impact"/>
              </a:rPr>
              <a:t>АПОСТОЛ ПАВЕ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54000"/>
            <a:ext cx="9144000" cy="2478960"/>
          </a:xfrm>
          <a:prstGeom prst="rect">
            <a:avLst/>
          </a:prstGeom>
          <a:gradFill rotWithShape="0">
            <a:gsLst>
              <a:gs pos="0">
                <a:srgbClr val="000082">
                  <a:alpha val="30196"/>
                </a:srgbClr>
              </a:gs>
              <a:gs pos="100000">
                <a:srgbClr val="ff8200">
                  <a:alpha val="2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еяния 13 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За пръв път е изпратен от Светия Дух заедно с Варнава да проповядват евангелието и отидоха от Антиохия до Кипър, Писадийска Антиохия, Икония, Листра и Дервия. Върнаха се в Антиохия, като минаха през същите места и посетиха Анталия. Всичко това трая около две год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9144000" cy="1747440"/>
          </a:xfrm>
          <a:prstGeom prst="rect">
            <a:avLst/>
          </a:prstGeom>
          <a:gradFill rotWithShape="0">
            <a:gsLst>
              <a:gs pos="0">
                <a:srgbClr val="000082">
                  <a:alpha val="26274"/>
                </a:srgbClr>
              </a:gs>
              <a:gs pos="100000">
                <a:srgbClr val="ff8200">
                  <a:alpha val="3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еяния 15 : 36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до 18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Второ посланническо пътуване от Антиохия към Киликия, Дервия, Листра, Фригия, Галатия, Троада, Неапол, Филипи, Солун, Берия, Атина и Кори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181480"/>
            <a:ext cx="9144000" cy="1747440"/>
          </a:xfrm>
          <a:prstGeom prst="rect">
            <a:avLst/>
          </a:prstGeom>
          <a:gradFill rotWithShape="0">
            <a:gsLst>
              <a:gs pos="0">
                <a:srgbClr val="000082">
                  <a:alpha val="23137"/>
                </a:srgbClr>
              </a:gs>
              <a:gs pos="100000">
                <a:srgbClr val="ff8200">
                  <a:alpha val="2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еяния 18 : 18 -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След година и половина в Коринт той посещава Ерусалим, като преминава през Кенхрея, Ефес и Кесерия, връщайки се в Антиох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666880" y="30492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Impact"/>
              </a:rPr>
              <a:t>АПОСТОЛ ПАВЕ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92280"/>
            <a:ext cx="9144000" cy="138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19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Трето мисионско пътуване - през Галат и Фригия той пристига в Еф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948040"/>
            <a:ext cx="9144000" cy="101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лед 2 години в Ефес отива през Троада и Македония в Кори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954600"/>
            <a:ext cx="9144000" cy="138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20 : 3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о 21 :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сещава Ерусалим, като тръгва от Коринт през Филипи, Троада, Милит, Тир, Птоломаид и Кеса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666880" y="304920"/>
            <a:ext cx="299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Impact"/>
              </a:rPr>
              <a:t>АПОСТОЛ ПАВЕ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046160"/>
            <a:ext cx="914400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Деяния 21 : 17 - 19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до 28 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лед 2 годишен затвор в Ерусалим и Кесария, той отплува от Сидон през Мира, Ласей и други пристанища за Малта, където претърпяват корабокрушение. През пролетта отново тръгва за Р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916360"/>
            <a:ext cx="9144000" cy="397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8. В Рим е затворен за две години и после освободен. Тръгва да мисионир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а/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Римляни 15 : 24, 25 -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в Испания /предполага се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б/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1 Тимотей 1 : 3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- в Ефес и Макед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в/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2 Тимотей 1 : 15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- в Мала А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г/ </a:t>
            </a:r>
            <a:r>
              <a:rPr b="1" lang="bg-BG" sz="2400" spc="-1" strike="noStrike">
                <a:solidFill>
                  <a:srgbClr val="ffffff"/>
                </a:solidFill>
                <a:latin typeface="Times New Roman"/>
              </a:rPr>
              <a:t>Тит 3 : 12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- в Нико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След това той пак е затворен в Рим, където радостно очаква мъченичеството при все, че беше 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89000" y="495360"/>
            <a:ext cx="87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ДАРБИ ЗА ДОСТИГАНЕ ДО СВЕТ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57520"/>
            <a:ext cx="289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СИОН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495600"/>
            <a:ext cx="3047760" cy="45972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ЗОРЛ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4334040"/>
            <a:ext cx="3886200" cy="45972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ЕНЕ НА ЕЗ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5248440"/>
            <a:ext cx="4038480" cy="459720"/>
          </a:xfrm>
          <a:prstGeom prst="rect">
            <a:avLst/>
          </a:prstGeom>
          <a:solidFill>
            <a:srgbClr val="99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ТЪЛКУВАНЕ НА ЕЗ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209680" y="304920"/>
            <a:ext cx="408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МИСИОНИРАН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1009800" y="3174840"/>
            <a:ext cx="6877080" cy="11912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9c9fe"/>
              </a:gs>
              <a:gs pos="100000">
                <a:srgbClr val="9999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секи истински ученик е роден в Божието царство като мисионер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а на Христа - 99 ст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971800" y="838080"/>
            <a:ext cx="2286000" cy="459720"/>
          </a:xfrm>
          <a:prstGeom prst="rect">
            <a:avLst/>
          </a:prstGeom>
          <a:solidFill>
            <a:srgbClr val="ff66ff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1 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927520"/>
            <a:ext cx="8305920" cy="119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Ще приемете сила, когато дойде върху вас Светия Дух и ще бъдете свидетели за Мене както в Ерусалим, тъй и в цяла Юдея и Самария и до края на земята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0"/>
            <a:ext cx="782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ДАРБИ ЗА ДОСТИГАНЕ ДО СВЕТ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стигането да света е основната задача на Църквата. Попадащите в тази категория дарби улесняват печеленето на души и съдействат за духовния и числен растеж на църкв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057400"/>
            <a:ext cx="9144000" cy="1922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умата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“евангелизъм”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произлиза от гръцката дума “</a:t>
            </a:r>
            <a:r>
              <a:rPr b="0" i="1" lang="bg-BG" sz="2400" spc="-1" strike="noStrike">
                <a:solidFill>
                  <a:srgbClr val="000000"/>
                </a:solidFill>
                <a:latin typeface="Times New Roman"/>
              </a:rPr>
              <a:t>еуаггелизиен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”, която представлява съчетание от две съставки: “</a:t>
            </a:r>
            <a:r>
              <a:rPr b="0" i="1" lang="bg-BG" sz="2400" spc="-1" strike="noStrike">
                <a:solidFill>
                  <a:srgbClr val="000000"/>
                </a:solidFill>
                <a:latin typeface="Times New Roman"/>
              </a:rPr>
              <a:t>еу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” със значение “добър” и “</a:t>
            </a:r>
            <a:r>
              <a:rPr b="0" i="1" lang="bg-BG" sz="2400" spc="-1" strike="noStrike">
                <a:solidFill>
                  <a:srgbClr val="000000"/>
                </a:solidFill>
                <a:latin typeface="Times New Roman"/>
              </a:rPr>
              <a:t>аггелеин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” в смисъл “нося новини”. Думата “евангелие” буквално означава “добри вести” и е употребена 132 пъти в Новия за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114800"/>
            <a:ext cx="9144000" cy="266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умата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“евангелизатор” -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bg-BG" sz="2400" spc="-1" strike="noStrike">
                <a:solidFill>
                  <a:srgbClr val="000000"/>
                </a:solidFill>
                <a:latin typeface="Times New Roman"/>
              </a:rPr>
              <a:t>еуаггелистес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”, носи смисъла на “проповедник на добри новини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За нас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“евангелизиране”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означава “достигане, което позволява на Господа да ни използва, за да привлече други към себе Си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арбите за достигане до света са предназначени за да подпомогнат църквата в тази, поставена  от Господа задач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5800" y="0"/>
            <a:ext cx="78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ДАРБИ ЗА ДОСТИГАНЕ ДО СВЕТ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685800"/>
            <a:ext cx="3352680" cy="45972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й 28 : 19,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gradFill rotWithShape="0">
            <a:gsLst>
              <a:gs pos="0">
                <a:srgbClr val="000082">
                  <a:alpha val="21176"/>
                </a:srgbClr>
              </a:gs>
              <a:gs pos="100000">
                <a:srgbClr val="ff8200">
                  <a:alpha val="2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амият живот на църквата зависи от верността й към изпълнението на заръчаното от Господ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Животът на Исус”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6 гл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9144000" cy="15570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Евангелизиране”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е термин, който обхваща цялата процедура, свързана с представянето на добрите вести на невярващи хора и привличането им към църквата. То е осъществяване на великата заръка от Госп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85800" y="0"/>
            <a:ext cx="78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Arial Black"/>
              </a:rPr>
              <a:t>ДАРБИ ЗА ДОСТИГАНЕ ДО СВЕТ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914400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Църквата е определения от Бога посредник за спасението на хората. Тя бе организирана, за да служи и мисията й е да занесе евангелието по света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яния на апостолите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гл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66880"/>
            <a:ext cx="9144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а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евангелизираме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означа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24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1. Да се изпълним със Светия Ду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2. Да отидем в света, за да търсим х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38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3. Да свидетелстваме за Ису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. Да прогласим добрите вести за спас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029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Да привличаме учениц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5627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6. Да кръщаваме нови вярващ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7. Да обучаваме хора да печелят душ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9000" y="495360"/>
            <a:ext cx="87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ДАРБИ ЗА ДОСТИГАНЕ ДО СВЕТ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267000"/>
            <a:ext cx="327672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АНГЕЛИЗ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267000"/>
            <a:ext cx="335268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СИОНИ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19520" y="160020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ЪРВА ЧАС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298440" y="2438280"/>
            <a:ext cx="854388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ДАРБА ЗА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ЕВАНГЕЛИЗИРАНЕ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838080" y="3049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ДАРБА ЗА ЕВАНГЕЛИЗИРАН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28800"/>
            <a:ext cx="9144000" cy="3576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ата с тази дарба заемат предните редици в търсене на души, които да обърнат към Бога. Чувстват дълбоко призвание да организират и провеждат мероприятия, в които да бъде възвестено за спасението чрез вяра в Христ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зи дарба имат и хора, които обичат да чукат на врати, да се заговарят с други хора в автобусите или влаковете, да посещават хора в домовете им, за да изнасят библейски уроци. Имат и мъдростта да задават директни въпроси за това, дали хората желаят да приемат Госп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2:43:08Z</dcterms:created>
  <dc:creator>CASD-Pleven</dc:creator>
  <dc:description/>
  <dc:language>en-US</dc:language>
  <cp:lastModifiedBy>TrifonTrifonow</cp:lastModifiedBy>
  <dcterms:modified xsi:type="dcterms:W3CDTF">2005-12-13T06:48:11Z</dcterms:modified>
  <cp:revision>199</cp:revision>
  <dc:subject/>
  <dc:title>No Slide Title</dc:title>
</cp:coreProperties>
</file>